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4A7-75F4-4F09-A55E-AE367919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C37-A1BC-485D-8E19-A7A7CFD9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A40-730C-49A2-BE4F-7DE0A1E2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F92-A6A5-4EBE-AE99-F2BAF700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6D9-6266-40D8-B2D5-01277A03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8A2-D223-4ED4-9CA7-1EB31B4F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D54-3347-4D84-AB8D-69DFCADD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B28-2658-4064-AA46-C883BFAE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895-6667-48BA-9DFC-72B89CF0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D61F-F13D-457C-9EC0-A08EAC62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639-14C3-49B8-AC15-6BB4C0C7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624-6C75-4623-91E9-C9CC0C66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5FC1-1A0F-42FC-9F74-4D63F528C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ormones That Affect Blood Suga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&amp; Reproductive Hormon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2 &amp;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erty in 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alamus relea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nadotropin-releasing hormone (GnR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tes the anterior pituitary to relea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licle-stimulating hormone (FSH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uteinizing hormone (L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H acts on seminiferous tubules to increase sperm-production;  LH acts on interstitial cells to produce testo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in Male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medscape.com/viewarticle/721069_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8680" y="1981080"/>
            <a:ext cx="380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male Reproductive Syste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webmd.com/infertility-and-reproduction/guide/female-reproductive-system-overvie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51040" y="1981080"/>
            <a:ext cx="38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male Reproductive Cycle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next slide from: http://all-nurses.blogspot.com/2011/05/menstrual-cycle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alamus relea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n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anterior pituitary to relea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H acts on ovaries and causes follicula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icle relea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causes thickening of uterine wall and feeds back to inhibit FSH releas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73280" y="609480"/>
            <a:ext cx="3997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kvhs.nbed.nb.ca/gallant/biology/biolog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14480" y="1066680"/>
            <a:ext cx="3513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lm.nih.gov/medlineplus/ency/imagepages/8883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0962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ets of Langerhan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health.howstuffworks.com/diseases-conditions/diabetes/diabetes1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cells in the pa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ells produ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cells produ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uc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54680" y="1981080"/>
            <a:ext cx="319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on of Blood Sugar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tattoo12.co.gp/keyword/glucose%20leve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71600" y="1981080"/>
            <a:ext cx="460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production or use of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insulin, blood sugar levels rise quickly after eating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glycem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glucose is eliminated in urine, body uses protein &amp; fat as energ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al Gland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images.yourdictionary.com/adrenal-gl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 medulla produces adrenaline and noradrena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 cortex produces 3 different types of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97600" y="1981080"/>
            <a:ext cx="291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al Cort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ucocortic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of hormones designed to keep blood glucose levels high (in times of st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eralocortic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of hormones that regulate salt-water balance (such as aldoster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ve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e Reproductive Syste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getceusnow.com/human_sexuality/penis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25600" y="1981080"/>
            <a:ext cx="449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6:29:18Z</dcterms:created>
  <dc:creator>rubina khan</dc:creator>
  <dc:description/>
  <dc:language>en-US</dc:language>
  <cp:lastModifiedBy>rubina khan</cp:lastModifiedBy>
  <dcterms:modified xsi:type="dcterms:W3CDTF">2011-06-03T14:59:42Z</dcterms:modified>
  <cp:revision>60</cp:revision>
  <dc:subject/>
  <dc:title>Hormones that Affect Blood Sugar  &amp; Reproductive Hormones</dc:title>
</cp:coreProperties>
</file>